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152D-3B8D-4464-84F9-3FE5AA6E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60D9-7D07-40DD-B9A2-E6BE5525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9B81B-ADA1-4B91-9B21-78F7E328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A31E4-4432-476F-B734-C97900C5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8DADC-DF84-48E0-8BF0-63CA9EAA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4F659-F89F-4DA1-BE0F-089C25CD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47536-3907-4E3E-8487-50B58FC0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2673E-AAFB-44F6-B58A-2CF0DA02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A245B-C50F-4C50-ADF8-A3B401CA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48D6C-8048-4308-9E49-CDAD948B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7256D-9CD7-4E92-94E2-2FDA02CB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9DA8B-A26B-40E0-B5F8-5377CDEF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3E85-BBBF-4B32-A7ED-4DD9F365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493F8-44A0-4E25-8346-D645DD63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E7DBC-90EA-4C1D-87D0-91B009D0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53F02-1130-4040-923C-43A077D9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3C4F4-44BF-4CAF-94D1-D6393448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A2181-3831-4777-B7FC-25E52B4E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5FD7C-4572-4052-A57A-6D62F61D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B1CA5-1D20-4149-9600-E3955CD0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882E0-A4CC-477F-8665-F23E39FB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BF4D2-9EA6-415F-8D11-0B4AE6C0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CDDF3-7293-4F4C-B4F2-C98EAF5B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F516-065C-4BD4-A0AA-D631262D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05CAB-A4B7-4113-821E-5026D245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34FC5-B057-4C76-8121-48519D47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A1F35-87F3-47D2-BBC4-571046A6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3578D-C47B-400E-B980-15BC26C0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9196C-9F96-4104-9D41-BFE9EE9E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D44F0-0A3C-49F4-9016-8AA16656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CBAEA-EFFB-4EBF-BCEF-D079D406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2CC72-B817-429E-807C-AD4D7AE0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BBA07-9ACE-4420-AE21-64E7730C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EDE0C-DEB4-4071-B461-7F5C1EDC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384C-C2A1-4613-9AD7-0E4CC515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AFD8C-AF91-48D5-B478-C907AAE8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92831-8DD0-4F4C-BD4F-CFE02744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3B592-B779-423C-B0E2-695E7EAC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DE393-7AB7-4188-A06B-C1034A26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543A6-3888-430D-ABF4-C7300E6F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4706C-725D-4FEE-B55B-364AF838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BABA8-6A82-4F0A-8C54-DA02379B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A4CCD-3C8B-4E88-9DAE-5E26E32F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7C874-105D-4C32-B7F6-2CB652DB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E93BD-C1D5-4183-9FA4-B4330D76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FB99-7BBC-42BA-A377-1B1C3507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4C804-8982-4AD4-A4C7-E956EC44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EDA6A-215B-4AB1-A62A-F20055ED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859D8-DA92-4368-83A8-393CED71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FB4B3-4901-4A3B-BFCD-8F75E3B1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86F8D-FDD2-4402-800A-73FF5373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4B27-ECD3-4778-AB57-3ECF1E0D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F8CA-E727-48FD-97D0-04D1C7C6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8FCB-15D0-436F-B35A-8A84C5BD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FA34-8F5D-4EFD-887B-A5D8C73A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027A-C6D8-403B-840E-176E0BA8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D9D-C136-4209-B8F6-276ABA10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DF8C-2654-40E9-B837-9A1F6AED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24A3-CEA5-43FC-BE9A-2AD72C54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9CAF-99F1-4950-B62A-38A33326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1E1D-6240-48BD-852D-1F5655EA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27BA-1BC4-4E0C-AB5F-C80FF4D7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9E991D-5316-4148-B8DE-4388C597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32F36-8A83-4439-8320-4481F09E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E8F4E-7408-49C6-8F73-163EFBB6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B5A7FB-2595-4C64-8C0E-36AB6A92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0038A4-7C3B-4731-A4A7-C5FD4F38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089B-BEA1-4D2D-BB4D-AA907C50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27775-FEBC-4DF6-B376-3AB203E6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E8CDC1-7694-4777-B29D-66B47EA0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4291A-24F0-4FF4-8C2E-2187615D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280130-1BF4-4ADD-AEAF-D227C11C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5B44A6-A33D-40C6-BAD6-57DF7E9E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8A3E7-A8A1-4A86-87DC-60527E91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50342-249E-460C-8149-98AE604B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C43B7-3875-44F1-85DD-6E545C8F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28253-F0DC-4F6A-A8FC-3FCC83AA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3BCB2-DE29-4A6F-BBC8-83B0C083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1AF9-ABED-4D3F-9968-9A9E1810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7BC20-9337-4F81-B41C-2370A745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78BB7-2559-40F5-B01E-F5C0D5E1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01661-B1C2-4C71-981C-D08FEB63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86C1A-DCEC-4F32-92C1-5F5A6204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7EEF6-B529-4C26-A75F-D2E5790B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19F99-ECF9-4E5C-9270-516813A4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A90D3-72F2-480F-8A8B-A1217EB1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417D3-7E85-4A16-9334-5E7BE3BD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E66C9-C7B5-4C19-86BA-5CA5F3C5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4EA10-1603-4AC1-B375-44CD4431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43D8-2CB2-453F-99D6-1C6F65AD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D86B9-FFF0-4B58-A636-421B3838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66B9B-68AF-4E42-B8C6-289A273E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8D01B-BAF7-4464-8CE9-346D3F1C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5351E-7327-4201-B5F8-3E8A60E6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C80C0-8759-4948-9017-FB601E51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C915A-B56A-4ADC-BFA8-40921018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64472-01A4-4693-AD9C-B6551235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70578-4591-4E29-9617-61DDD876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99CF0-13F3-423C-80E7-9E63E9F5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F4C24-AFB9-452F-8731-63E49BD3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A519-07CE-4569-9FE6-05901835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77D96-3500-4D29-91C5-89A22CA5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F80CDC-965D-4F7A-B1FA-ECBFFDDB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9C6AA6-42F7-408F-BB3C-2882825C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AF60A4-36B1-4DE7-A5D6-43B934C6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9E667E-B0D3-4DF6-81DB-AB8683E4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D63121-E297-4FD1-970F-1C95B5A3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C4E3E7-F700-4E4A-A650-739769CE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B1B8CD-4A6E-4EF7-B772-0B648A4C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5D26BA-4654-49DB-A818-B8B8E655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0AD436-F124-4833-9A10-121756EC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8BA9-F9D2-4B62-9B10-27A3494A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26870F-D2DA-4CAA-B906-CCAFB364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AF4F70-3B97-4AE1-89B2-BB5D185B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25EDA1-331D-4C65-AFC8-51818D69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F2B9E-CD84-44D2-A153-43791C1C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2DA5C-8954-4397-B104-7BCB209B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61BE2-AD47-480F-BCC5-DD3166BA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5AA68-92A1-4A67-9B34-84627B02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51E32-29E4-4C4D-A43A-A6C50C60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18E9E-7A3C-4824-B378-71EEEC86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BF875-3367-4E25-AFB3-DEFFDF02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2BFE-BAA2-4514-A7FB-9E721292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09CD6-880C-4896-8142-2E6EA870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750F4-95C2-4DAC-8A60-6933CEAA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90F06-E694-42F7-8623-2D31708B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F9966-5EA3-42A3-BE45-3CA7ED7D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47C7B-34AB-4C41-8AE3-E6EEDFDB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185BCD-EE7D-4CE2-A9AE-9182A8C8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4E930D-5AAB-41BD-9A2B-B2F384C2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8206CC-6421-4664-9528-C400DCA7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2E7859-CA48-4908-BCB1-31C5242D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033F4E-9B30-407A-BADA-46F8F05F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D71A-D578-484E-BE9E-18623FDF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2C8987-BB58-41D4-948F-6273118F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B96906-ABC7-4B14-8688-3EDBE5EC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952EB3-2F57-4559-B779-DED30C53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A84476-672F-4779-BD8E-5ED92FCE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D4DB5D-DFCC-43E3-8602-FCE9AF54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A13D86-8EEB-447F-899C-7D44D73C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21FF22-4A00-47E1-B3A0-C59BEB46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FA57A-9244-448D-B801-EC03233B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E22D6-6CAC-4C34-845F-7F3F6278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C92D5-4AD2-4070-9BD1-815E093B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A5F1-DECF-46EF-8CB4-77444C8FDB1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729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F2DD-2198-422F-9DA4-1B8EC816F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76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CB00-8AD7-430B-AEBC-1889D6947C4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9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20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4458-1B4B-4BE6-87A6-39ED536F0E2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BE9D-3C43-4193-B822-BE6C64B0AD5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5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6AAA-4D34-4898-A720-164B3405F55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1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CF56-0C59-4184-A7C6-B810EDF43E4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8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8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B95C-E6B0-46F3-A344-0449F1947F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3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4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4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EB02-66E4-4B5D-BA8D-44C40030DD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26F1-DD18-4070-A0D9-958F1BA0C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B22A-B1CF-4BD7-BEDC-03B1A9D48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79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87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8634-EE38-459B-A200-393C6EA50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cc"/>
                </a:solidFill>
                <a:uFillTx/>
                <a:latin typeface="Tahoma"/>
              </a:rPr>
              <a:t>le chateau de Shaq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Ethan Tumeinsk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3048120" y="4191120"/>
            <a:ext cx="3047760" cy="245088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3048120" y="152280"/>
            <a:ext cx="2571480" cy="178128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3"/>
          <a:stretch/>
        </p:blipFill>
        <p:spPr>
          <a:xfrm>
            <a:off x="6934320" y="3124080"/>
            <a:ext cx="1942920" cy="1457280"/>
          </a:xfrm>
          <a:prstGeom prst="rect">
            <a:avLst/>
          </a:prstGeom>
          <a:ln w="0">
            <a:noFill/>
          </a:ln>
        </p:spPr>
      </p:pic>
      <p:pic>
        <p:nvPicPr>
          <p:cNvPr id="867" name="" descr=""/>
          <p:cNvPicPr/>
          <p:nvPr/>
        </p:nvPicPr>
        <p:blipFill>
          <a:blip r:embed="rId4"/>
          <a:stretch/>
        </p:blipFill>
        <p:spPr>
          <a:xfrm>
            <a:off x="457200" y="2971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 maison de Shaq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71500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638680" y="251460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943600" y="220968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e chateau de Shaq a hiut chambres, a un gymnas,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à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 l’int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é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ieur une cour de basketball, une vapeur salle, une sauna, et neuf salles de bains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72" name="" descr="shaqs star island estate Shaquille ONeals House in Miami"/>
          <p:cNvPicPr/>
          <p:nvPr/>
        </p:nvPicPr>
        <p:blipFill>
          <a:blip r:embed="rId1"/>
          <a:stretch/>
        </p:blipFill>
        <p:spPr>
          <a:xfrm>
            <a:off x="1371600" y="1752480"/>
            <a:ext cx="4343400" cy="33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chambre de Sha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4" name="" descr="a26 star island15 Shaquille ONeals House in Miami"/>
          <p:cNvPicPr/>
          <p:nvPr/>
        </p:nvPicPr>
        <p:blipFill>
          <a:blip r:embed="rId2"/>
          <a:stretch/>
        </p:blipFill>
        <p:spPr>
          <a:xfrm>
            <a:off x="1752480" y="2590920"/>
            <a:ext cx="5181840" cy="345420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2438280" y="17524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haq’s chambr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086600" y="3124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52280" y="3048120"/>
            <a:ext cx="1524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a chambre de Shaq est beige, Shaq a treize  chambres dans sa maison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 salle de bains de Shaq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209840" cy="277668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228600" y="2819520"/>
            <a:ext cx="1447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a salle de bains de Shaq est blanche, Shaq a neuf salles de bains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 salon de Shaq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2514600" y="2666880"/>
            <a:ext cx="3800520" cy="254340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6781680" y="3276720"/>
            <a:ext cx="2210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29400" y="31240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04920" y="31240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salon de Shaq est blanc, et c’est super- formale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 salle à mang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3810240" cy="25336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4419720" y="2590920"/>
            <a:ext cx="3809880" cy="253368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1600200" y="55627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a salle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  <a:ea typeface="Arial"/>
              </a:rPr>
              <a:t>à 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anger de Shaq est marron, C’est comme un  restaurant avec des tables et des bancs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Le gymnas de Shaq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324320" cy="2882880"/>
          </a:xfrm>
          <a:prstGeom prst="rect">
            <a:avLst/>
          </a:prstGeom>
          <a:ln w="0">
            <a:noFill/>
          </a:ln>
        </p:spPr>
      </p:pic>
      <p:sp>
        <p:nvSpPr>
          <p:cNvPr id="892" name=""/>
          <p:cNvSpPr/>
          <p:nvPr/>
        </p:nvSpPr>
        <p:spPr>
          <a:xfrm>
            <a:off x="228600" y="25146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Le gymnas de Shaq est blanc et noir, et formidable!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9:08:53Z</dcterms:created>
  <dc:creator>edill</dc:creator>
  <dc:description/>
  <dc:language>en-US</dc:language>
  <cp:lastModifiedBy>edill</cp:lastModifiedBy>
  <dcterms:modified xsi:type="dcterms:W3CDTF">2011-11-15T19:57:11Z</dcterms:modified>
  <cp:revision>6</cp:revision>
  <dc:subject/>
  <dc:title>LaBron James’s House</dc:title>
</cp:coreProperties>
</file>